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7EF-D844-4518-AA8D-86FB0281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F0A-7E9C-4598-91A7-7B27688D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F42-6D61-4C98-BE7C-D2D48BDB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8CD-461B-4EDA-9795-80C335ED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6B4-6A9C-48E9-A2BD-F6B0C2EC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FA5-CD4E-45A4-8AC1-D90DA248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AE8-BEFD-4EF7-960C-F06FA614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B96-C3FB-4D01-AB01-BDE76994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234-5089-4AF7-A68E-9ACB71E4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949-45BC-4840-ACA1-718D33C2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E2D-8497-42B7-BA40-A30066F3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110-7F00-47C4-9CB4-51C10B39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949B-D65B-4990-B40B-89A605F7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P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cca Hutch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149960" y="36360"/>
            <a:ext cx="207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for 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vs.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ize.  Col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igma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ve vox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t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vert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are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2004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6160" y="7984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vo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29880" y="493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2336760" cy="192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68160" y="2649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1981080"/>
            <a:ext cx="2438280" cy="2006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3880" y="3084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438280" y="1981080"/>
            <a:ext cx="2362320" cy="19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806200" y="28558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4876920" y="1905120"/>
            <a:ext cx="2336760" cy="1898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44840" y="21700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0" y="39625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5120" y="4608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2438280" y="3886200"/>
            <a:ext cx="24386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53920" y="4075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4876920" y="3809880"/>
            <a:ext cx="2361960" cy="1919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45560" y="51418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-51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955760" y="25146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97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0080" y="2895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91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4080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3600" y="40384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160" y="4572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9800" y="43434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4320" y="1865160"/>
            <a:ext cx="245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time v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.  Color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t siz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lines are pre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– noise is no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factor for 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.  It’s more of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for larg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(black = 80)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ones (red = 2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468760"/>
            <a:ext cx="892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on plots - Top number (seconds) on vertical axis for each plot is as follows (voxels on top row, max seconds on bottom ro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xels and max seconds fairly independent – scales well with voxel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4120" y="762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828800" y="304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792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19840" y="5698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vo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2362320" cy="1916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424960" y="189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2273400" cy="1843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168160" y="874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854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073280" y="493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2362320" cy="191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0200" y="28558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362320" y="1905120"/>
            <a:ext cx="213336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730240" y="27036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648320" y="1905120"/>
            <a:ext cx="2133360" cy="1749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39920" y="247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0" y="3768840"/>
            <a:ext cx="2133720" cy="1730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5640" y="45324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2362320" y="3646440"/>
            <a:ext cx="2286000" cy="1852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653920" y="4303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4648320" y="3654360"/>
            <a:ext cx="2273040" cy="1844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939920" y="42274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7960" y="15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vo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55760" y="25146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9760" y="25146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0080" y="28195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9120" y="533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3120" y="762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40800" y="533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3600" y="3962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41160" y="4495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9800" y="4267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5400" y="1789200"/>
            <a:ext cx="243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time v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t siz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s are sigma v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gener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with trai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.  Lines are cl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ch other – s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is not as big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as nEx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392800"/>
            <a:ext cx="892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on plots - Top number (seconds) on vertical axis for each plot is as follows (voxels on top row, max seconds on bottom ro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xels and max seconds fairly independent – scales well with voxel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3400" y="762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38080" y="2286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785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14920" y="4176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vo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2286000" cy="1844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24960" y="493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2146320" cy="1733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15880" y="493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784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225560" y="5698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0" y="1739880"/>
            <a:ext cx="2286000" cy="1844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91600" y="224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2286000" y="1739880"/>
            <a:ext cx="2286000" cy="1846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01640" y="224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648320" y="1739880"/>
            <a:ext cx="2222280" cy="1816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863600" y="20178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0" y="3514680"/>
            <a:ext cx="2362320" cy="1908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91960" y="4075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2362320" y="3576600"/>
            <a:ext cx="2286000" cy="1846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77960" y="3998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4648320" y="3565440"/>
            <a:ext cx="2298600" cy="1857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863960" y="4075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oxels can we hand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training examples do we ne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noise can we tole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key factors contributing to training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ynthetic data to approach these questions so we know ground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experiment – intended to raise mor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6172200" cy="258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160020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759040" y="156384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1447920" cy="112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2204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312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912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17524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respon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0" y="32004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nst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200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3657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148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640" y="411480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under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572000"/>
            <a:ext cx="3200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8280" y="28558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1, 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4160" y="32767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2, S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2760" y="37339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3, S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vo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1, 2, 4, 8, 16, …, 8192, 1638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noise added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.1, 0.2154, 0.4642, 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train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5, 10, 20, 40, 8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accuracy for process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accuracy for star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ability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d error between learned model and true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for now – KL divergence is a better metric – implement for later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fitting: normalized loglikelihood on training set vs. test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g in current experimen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to fo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plots – to show general tr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tail on plots, see /afs/cs/project/theo-72/hpm/More HPM Docs/OEM1_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464160" y="2779560"/>
            <a:ext cx="265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accu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IDs against sig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s are 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decreas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with nois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re (informativ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xels the b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n’t pink (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) always b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 is a weird 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: vertic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 all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39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7080" y="1828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vo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2971800" cy="242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91640" y="17128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363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555600" y="10666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2286000"/>
            <a:ext cx="2819520" cy="2298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7560" y="33894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00400" y="2438280"/>
            <a:ext cx="2743200" cy="2237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01840" y="40752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4572000"/>
            <a:ext cx="2819520" cy="2273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7920" y="5751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276720" y="4683240"/>
            <a:ext cx="2666880" cy="2174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17680" y="5181480"/>
            <a:ext cx="17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-512 voxe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ha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72200" y="152280"/>
            <a:ext cx="269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accu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IDs agai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t siz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s are sigma val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model shown w/ x on vertical axis (hard to see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light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with in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(not as m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?). 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ies gener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with numb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ve vox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 = 1 (cy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ly w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255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7560" y="4176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vo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2743200" cy="2228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44280" y="1179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2743200" cy="222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7560" y="3084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124080" y="2286000"/>
            <a:ext cx="2667240" cy="2166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72880" y="33130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971800" y="4656240"/>
            <a:ext cx="2743200" cy="220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39720" y="62085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324480" y="4567320"/>
            <a:ext cx="2819520" cy="2290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32280" y="5715000"/>
            <a:ext cx="17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-512 voxe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ha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0" y="4505400"/>
            <a:ext cx="2895480" cy="235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72840" y="5751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17120" y="1371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23040" y="36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25560" y="36360"/>
            <a:ext cx="2084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for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again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.  Color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t si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w/ #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ve vox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tic data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determ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some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t” the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genta)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887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7040" y="722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vo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2286000" cy="188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1280" y="14079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2311560" cy="190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91840" y="14079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2362320" cy="1950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5280" y="32367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362320" y="1905120"/>
            <a:ext cx="2361960" cy="1927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77600" y="28558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876920" y="1905120"/>
            <a:ext cx="2286000" cy="1865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68520" y="27795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0" y="3886200"/>
            <a:ext cx="2514600" cy="205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8800" y="52941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2514600" y="3886200"/>
            <a:ext cx="2362320" cy="1927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63760" y="5218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4876920" y="3809880"/>
            <a:ext cx="2361960" cy="192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69240" y="521820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-512 vo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6:51:37Z</dcterms:created>
  <dc:creator>School of Computer Science</dc:creator>
  <dc:description/>
  <dc:language>en-US</dc:language>
  <cp:lastModifiedBy>rah</cp:lastModifiedBy>
  <dcterms:modified xsi:type="dcterms:W3CDTF">2005-05-31T03:40:31Z</dcterms:modified>
  <cp:revision>17</cp:revision>
  <dc:subject/>
  <dc:title>Synthetic PS results</dc:title>
</cp:coreProperties>
</file>